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12.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7AFFD-B89F-4C40-9E8C-63D2959DB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269DF-2704-4EDC-98B8-47D47FA66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FAD0B-35C6-425B-8926-54A37030A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BDAEA-3A77-402A-B07D-D624DACF4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085C3-619C-4A75-96E6-816BF872F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FE08D-3941-428B-AAB3-28FFEF9FC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3A624-F79F-4038-A1F2-9AC030F5E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F911F-5233-4370-BC44-056BCFDDF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E7A55-FBC3-400E-BBDD-03360BAEC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D75E0-8DA3-4A7D-9369-BDB8DD452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A7DFE-B6D2-4C39-84A6-BE81F5E4F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F82AA-ED98-49EB-848E-2D2A8872C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13274-BF8C-4C00-BF85-91D116A31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E96A4-7316-448C-8871-05E57390F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66792-7B6F-4697-9E85-B5022871C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5222D-D0CD-4455-B8C2-5529ED609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5FBC8-12C7-453C-8FA5-5A21111FE5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058D7B-73E0-4AAC-BE84-91F2EC3E86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BE02F4-D568-48F6-8257-4D43804189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580E9-1D51-4F69-BEF8-9A3758955D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680C19-A8A4-4EEE-A36B-B5C221A00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B94BF3-867F-4FC0-876F-77070A116F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1C6B8-B01C-467C-8E3B-17FCBA079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1A1B73-38AA-4F1A-B4A6-C27C03D21C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5153E-FF00-4F86-9358-81CB3825E0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74970-85EC-4C0C-B65F-DB513FF973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8A1B9-FAE6-4FB5-AE76-D4D816C29A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F8D04-B5FE-4B89-85DE-2D5907C1A6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5183D8-D2AE-4F90-8745-85D6075758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E246CB-5A9F-4C2B-B1EC-FA7557762C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326B91-7B93-437A-8783-C0B9EA70EB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0F9F6-3D9A-4052-AF55-35B8177C85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F32A33-578E-42A2-8660-CA466691E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03D3E-5F25-43FF-9544-ADAF3332E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0C839C-84BC-48B1-9219-295A2B9DE7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C298C9-C40B-4A52-A8BA-BFCBB9526A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B4E355-04B4-45F8-9F90-9DA305877E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3F6797-C38D-4509-9191-2EE518024D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8F6FA2-85DA-4510-AE34-69ED1C1B1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76BF4-197A-4A94-B0F6-4319CC342E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414CA5-A314-421B-949A-B690B7E7A0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646C8A-F0C1-4AF1-A2CA-9EA2E6BC64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AFE17A-AA87-4058-AABE-93E732DBA5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34DC31-3E73-48F2-B3B8-A6D7BAAC4A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A2127-173D-4311-A848-AD92886F8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27F30A-FBAD-4A23-95E6-062E56DD42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A5B434-0991-4FC2-A33E-8F0584A2D2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D8FFBC-5C6D-4035-AF42-F89DA573AB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9B0718-6007-48E2-A444-AD25B2B724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F24D36-2062-4189-9995-1401988C99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F48D17-4F33-42C1-AFFE-96D2ACE872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3B850E-E09E-4F4B-A3C0-BA91F58491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51F679-772F-4AD8-82FF-43FFD8F25E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19EEB5-6F41-48F4-89D6-C45E7352B1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ACF39E-4C8B-4C29-9998-BD9B7BBEDF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1E57C-A662-47C7-A022-37E48A3C8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7A0084-2E9C-4E3A-8122-C181F516A6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BA387B-7636-4778-84C7-EA16504DC7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FAD430-8A93-4371-8254-69825545C4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D760D2-76DD-4207-AD40-958DC05A72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9C7CA8-DF75-4066-BC01-9773510051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6E9848-068D-4913-B2C8-DB65A1CCDC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08815D-F5A5-43D3-8BB3-F87EB2F207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E103EA-A4AD-44B1-BEA9-8590C67426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EDF02D-1F50-401D-AD81-5D20D8865B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3883C4-46B6-480C-BACD-2BB732B855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27962-FA95-4E6C-9201-DF4EDFCC0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099E32-0CFA-4206-BD02-624F840422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F36E69-A6A1-40FB-81B8-B882D027D4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0C83BF-5B8E-481A-84DF-B5A553DC56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477EE1-DE8E-4DD1-A24B-512BA269AE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193D12-D1D2-4EDF-8B77-2CB060C44E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DD6FCD-32B5-478D-99C2-142BF4836E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8584EB-7D8B-468F-B29C-EA6E958441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D7663C-1777-445E-83DF-72297EDFB6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A57AFB-4F65-48EC-8D8C-FFD88C20EB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181BEF-D0B7-45B2-B4C4-2EC38820E8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BA4AA-B643-4561-8E52-4ADC24C79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0D9F38-5696-481D-8967-10BE35A69A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7E340A-56C7-44BC-B8D4-AA672D09FE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93A0D3-B4CF-4D5A-98BF-38D4E67F7E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B27611-F561-46EA-9E1E-544AC2B810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15AA1B-3C7B-4D33-9DDF-F03DD03E9D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792D59-A409-4E48-98C6-563E51B267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035283-5F1F-47BB-AAC7-D79DD33400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5377D0-F0AE-4C8F-B39A-91D88CCDA8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B2827E-7CC3-4C72-86CD-BB2C125905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2F2C3D-E7E5-4A8E-A3E7-1AF3CC2F10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0DAA2-8720-44D0-A7BC-8184BB043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6C580A-9667-4950-9397-39ED90F198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FC2F2C-6E96-4650-AF31-A56EAF52BF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1C1929-7536-486A-8AA9-92AEC552AC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85547E-929B-42B3-B188-AEA89F5341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5F8503-CE4D-4976-898C-67D929ED9C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CD9562-63F9-4DC1-B81A-02F23019FB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F11E0A-D519-49C8-AAD2-0FAA9192995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4706E-E068-4040-A80A-7B726E71A3D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3DB1-B895-483F-A44D-D737E56779D0}"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B7EA-05C3-48FB-AA64-ED012C8FF22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3682-D1B9-4713-A95B-B582F5060A0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E5EC-C123-42E8-B8D9-FDD736626F6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1695-D243-4B10-903C-56084B42252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77D4-3505-46A4-AD3F-05AB7816D21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2C4C-004C-490C-A8F1-62F432AAFE91}"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259840" cy="1841400"/>
          </a:xfrm>
          <a:prstGeom prst="rect">
            <a:avLst/>
          </a:prstGeom>
          <a:ln w="0">
            <a:noFill/>
          </a:ln>
        </p:spPr>
      </p:pic>
      <p:sp>
        <p:nvSpPr>
          <p:cNvPr id="371" name="PlaceHolder 1"/>
          <p:cNvSpPr>
            <a:spLocks noGrp="1"/>
          </p:cNvSpPr>
          <p:nvPr>
            <p:ph type="subTitle"/>
          </p:nvPr>
        </p:nvSpPr>
        <p:spPr>
          <a:xfrm>
            <a:off x="685440" y="3611520"/>
            <a:ext cx="441972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Max Steele</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
          <p:cNvPicPr/>
          <p:nvPr/>
        </p:nvPicPr>
        <p:blipFill>
          <a:blip r:embed="rId1"/>
          <a:stretch/>
        </p:blipFill>
        <p:spPr>
          <a:xfrm>
            <a:off x="3124080" y="457200"/>
            <a:ext cx="3956040" cy="56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See full size image"/>
          <p:cNvPicPr/>
          <p:nvPr/>
        </p:nvPicPr>
        <p:blipFill>
          <a:blip r:embed="rId1"/>
          <a:stretch/>
        </p:blipFill>
        <p:spPr>
          <a:xfrm>
            <a:off x="914400" y="228600"/>
            <a:ext cx="7889760" cy="579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4" descr="http://www.sheldoncollege.com/Portals/0/kindy2.jpg"/>
          <p:cNvPicPr/>
          <p:nvPr/>
        </p:nvPicPr>
        <p:blipFill>
          <a:blip r:embed="rId1"/>
          <a:stretch/>
        </p:blipFill>
        <p:spPr>
          <a:xfrm>
            <a:off x="861840" y="990720"/>
            <a:ext cx="6758280" cy="493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you think that a teacher should treat students like adults or like childre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ow important is it to have good manners and social pois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can teachers do to increase or decrease a student’s sense of prid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do you consider to be the really important things a person needs to learn in schoo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are some ways in which little things tell you a lot about people---such as their manners, how they enter a room, or the way they say their nam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y do people sometimes become shy when they say their names?</a:t>
            </a:r>
            <a:endParaRPr b="0" lang="en-US" sz="2300" spc="-1" strike="noStrike">
              <a:solidFill>
                <a:srgbClr val="000000"/>
              </a:solidFill>
              <a:latin typeface="Lucida Sans Unicode"/>
            </a:endParaRPr>
          </a:p>
        </p:txBody>
      </p:sp>
      <p:pic>
        <p:nvPicPr>
          <p:cNvPr id="376" name="Title 1"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481040"/>
            <a:ext cx="8229600" cy="4525920"/>
          </a:xfrm>
          <a:prstGeom prst="rect">
            <a:avLst/>
          </a:prstGeom>
          <a:noFill/>
          <a:ln w="0">
            <a:noFill/>
          </a:ln>
        </p:spPr>
        <p:txBody>
          <a:bodyPr anchor="t">
            <a:normAutofit fontScale="89000"/>
          </a:bodyPr>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writer attended the kindergarten of Miss Effie Barr in 1930. No Southern lady of Miss Effie's generation worked. From 1910 to 1940 she supplemented her income by teaching 11 children at the rate of two dollars a week. She taught them: to drink coffee, sweep, dust, garden, wash windows, behave as ladies &amp; gentlemen, &amp; read. It was said by the public school teachers that the children she had taught to read had grown up reading everything they could find. She made it clear that parents did not need to know what their children did while under her instruction. Her cat was old &amp; liked to fight. When it came home torn &amp; bleeding, the children helped her chloroform it. She dismissed them early, saying, "Tell your parents the only thing Miss Effie had to teach you today was how to kill a cat."</a:t>
            </a:r>
            <a:endParaRPr b="0" lang="en-US" sz="20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8" name="Title 2" descr=""/>
          <p:cNvPicPr/>
          <p:nvPr/>
        </p:nvPicPr>
        <p:blipFill>
          <a:blip r:embed="rId1"/>
          <a:stretch/>
        </p:blipFill>
        <p:spPr>
          <a:xfrm>
            <a:off x="401760" y="146160"/>
            <a:ext cx="829152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12:42:37Z</dcterms:created>
  <dc:creator>Ashley</dc:creator>
  <dc:description/>
  <dc:language>en-US</dc:language>
  <cp:lastModifiedBy>Ashley</cp:lastModifiedBy>
  <dcterms:modified xsi:type="dcterms:W3CDTF">2010-07-14T12:44:15Z</dcterms:modified>
  <cp:revision>8</cp:revision>
  <dc:subject/>
  <dc:title>“The Cat and the Coffee Drinkers”</dc:title>
</cp:coreProperties>
</file>